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4034862"/>
        <c:axId val="29597703"/>
      </c:barChart>
      <c:catAx>
        <c:axId val="8403486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597703"/>
        <c:crosses val="autoZero"/>
        <c:auto val="1"/>
        <c:lblAlgn val="ctr"/>
        <c:lblOffset val="100"/>
        <c:noMultiLvlLbl val="0"/>
      </c:catAx>
      <c:valAx>
        <c:axId val="2959770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03486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93CE-B3D1-4294-86A4-20693D5E8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DC55-6B98-4B55-979F-6D7586161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73BB-9666-4405-B503-29A2798F1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67E4-0E31-45BC-839A-30890B4ED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141E-A161-4838-AF5C-C441D432A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9BD3-6F51-40C7-9D8D-9A5BCA2E4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0893-BCE7-4887-A93E-35A3E2C67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E5CE-A1F8-43E5-AC48-BDA78B6D9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D2AC-77BE-4B5E-B0EF-367B99017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99F5-9896-42C4-A04F-1BF43197F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945A-2E78-43DD-B477-740CDB9C9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9C54-AC9C-42F5-8DFE-0583FEA88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A81FC7-8502-4F52-9F61-886C90EE769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