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48550"/>
        <c:axId val="37399176"/>
      </c:barChart>
      <c:catAx>
        <c:axId val="967485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99176"/>
        <c:crosses val="autoZero"/>
        <c:auto val="1"/>
        <c:lblAlgn val="ctr"/>
        <c:lblOffset val="100"/>
        <c:noMultiLvlLbl val="0"/>
      </c:catAx>
      <c:valAx>
        <c:axId val="373991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485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E62F-63E6-4E7B-9E4A-1CE393E40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121-75A2-4749-802F-8F601C2E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222C-DBFB-4F05-B3B9-038D34C29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7CBF-946E-490A-B0D3-3BCEC91D1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866F-C5F9-46EB-B8D5-B53E4886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3CE-A6E3-4312-B85A-49DAEA344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3E36-5786-4C61-B9E6-3FDFA674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7B4D-EDD0-4C2F-81D4-F53848F3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330F-F214-4864-B1EE-97D699D2C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D1FB-2CBF-4BD3-9CDA-AA98B2BF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1389-2D5F-4462-A648-934284AA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5CC-E7CD-4524-8BD6-EDC6FE1A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D2869-9215-4C43-B9C6-68115C2CDB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