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4019"/>
        <c:axId val="16537353"/>
      </c:barChart>
      <c:catAx>
        <c:axId val="8214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37353"/>
        <c:crosses val="autoZero"/>
        <c:auto val="1"/>
        <c:lblAlgn val="ctr"/>
        <c:lblOffset val="100"/>
        <c:noMultiLvlLbl val="0"/>
      </c:catAx>
      <c:valAx>
        <c:axId val="16537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4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83BB-460F-48F8-9C8D-58D3B8EB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C88-013F-4E13-96A0-D475963E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BFE-3E02-4385-B2F4-91E6386C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D92F-7992-4C91-9F06-1255E875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3B45-5BA3-408B-AD1F-3A529940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EA5-D4E8-4B05-969A-B920F904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48E-12A6-454B-B3B1-62308285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7F7-73ED-4239-83AE-84DB2053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35C-8B75-4B33-A5D9-A744C084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2F2-002C-475D-9546-C76F62A2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62C-1543-4BAD-AAD8-79BC64BE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014-1B84-4505-ABB1-2EC315C8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4CA96-39EE-4BE5-A0A2-07EED642E0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