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02088"/>
        <c:axId val="4977865"/>
      </c:barChart>
      <c:catAx>
        <c:axId val="47102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7865"/>
        <c:crosses val="autoZero"/>
        <c:auto val="1"/>
        <c:lblAlgn val="ctr"/>
        <c:lblOffset val="100"/>
        <c:noMultiLvlLbl val="0"/>
      </c:catAx>
      <c:valAx>
        <c:axId val="4977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02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C31-8CD9-48DB-B8E6-A3C00D20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D3D-73E7-4BAA-BFFE-2CFA0704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16F-6BDA-4495-A883-638C52AA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6C7-51C9-41C6-AD53-70475080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553-BF9B-45F2-8D5A-842EDF31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75B-873A-478A-9E94-2E843859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700-498B-4CC2-8E71-DB76DE14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634-91B3-4238-BA3F-6B39AD1D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907-2317-4812-A8B2-E0EEEE44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9BB-455F-41E5-9056-45690220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E24-E0CD-498D-8A12-2E136694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BDC-2327-40AA-9AC5-915F30B4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F510D-0674-4CA4-B946-E7402DE457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