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19733"/>
        <c:axId val="21407026"/>
      </c:barChart>
      <c:catAx>
        <c:axId val="57219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07026"/>
        <c:crosses val="autoZero"/>
        <c:auto val="1"/>
        <c:lblAlgn val="ctr"/>
        <c:lblOffset val="100"/>
        <c:noMultiLvlLbl val="0"/>
      </c:catAx>
      <c:valAx>
        <c:axId val="21407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19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009-E392-4274-BE95-30A9BFA9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2B8-0E9D-42DB-BB5C-21D79B9F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7A15-46C9-405E-AFDA-7F08BF99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081-9856-44CC-9B74-C661F856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EEF-68F6-4976-A7DA-A980011F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5B8-DB21-4EB1-850E-4F37D476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1C8-0E9A-42AB-872C-1AEFCCDE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DD9-EC6B-4B98-BDD5-00D45F2B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EDE-20B2-48F1-9DE1-95758D23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874-8395-4F9C-94A6-751BBF65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A9B9-2BFD-4748-9344-1948E5C4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0FD-A1FC-41A2-94E0-87A56FE5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7470B-1FA6-4461-BB70-5E08D8D111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