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09621"/>
        <c:axId val="18617468"/>
      </c:barChart>
      <c:catAx>
        <c:axId val="944096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17468"/>
        <c:crosses val="autoZero"/>
        <c:auto val="1"/>
        <c:lblAlgn val="ctr"/>
        <c:lblOffset val="100"/>
        <c:noMultiLvlLbl val="0"/>
      </c:catAx>
      <c:valAx>
        <c:axId val="186174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096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5E32-BC1E-4BF7-A06B-C6A98674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DDF-8CD7-4588-907E-EBAD6620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4F5F-D81E-40BE-82AC-92CD0305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A9E-4170-4D45-8F1C-445B782C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B85-090D-4B05-8111-355F3962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9836-19E3-4A9E-AADA-E1255686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DF69-006E-4F6A-A157-8F403975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1E3-27A3-45E4-9DF8-787CF2D3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785-DD9D-4772-B736-A130AAC7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1F8-FB16-458C-B3E4-497151D7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130B-7850-4384-BC3D-72ED7184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DFEC-9B1F-4684-9C26-A5726B81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2D1E7-2FEF-42D6-BD74-05536C960E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